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6D5-3BFA-4285-A2F0-1203A94F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2B6-0F88-4858-964E-9E515369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2FD-B405-49A6-B349-D6E4D59B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985-D415-44D4-912F-132D5E2F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6E28-7232-4C55-93CF-816C0428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D1EF-1D0E-425E-8F42-D769B3E5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A0FA-437E-43A5-8D35-F9A3CFF7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D229-6A27-44B5-AD5F-6B52E7BC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6D49-934F-46D5-A932-DD055B67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AC2A-A732-4DB9-B460-559B0886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7085-8602-47BC-85F7-2BD8E723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FC9-6659-4911-8C95-288C5C2D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9570-43D5-4819-8826-F89169BE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F836-E6D6-4ACF-B78B-4058CA9D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D09E-C5C9-4EB8-B92C-0DA02881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00CE-2A76-4586-8FED-66816A64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25C1-1E68-4673-8900-40532077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64C-0908-4B3E-AC62-C1B0D339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074-5C30-4B06-94F3-73A6051A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C71-23A7-426E-996F-05CB4E64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2CE-67FF-4AC0-B734-F0B686B8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99C-19DE-4858-962B-CB9DA381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B5A-11F5-4708-99DD-C08E0212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192-3133-4FCD-9B6B-8A209B4F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1B78-AEAC-43E9-AE48-CCC42650B679}" type="slidenum">
              <a:rPr b="0" lang="tr-T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2A67-8240-41BA-91BC-CBC22AA00698}" type="slidenum">
              <a:rPr b="0" lang="tr-T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Verdana"/>
              </a:rPr>
              <a:t>İSMMMO-İş Kuleleri</a:t>
            </a:r>
            <a:br>
              <a:rPr sz="3200"/>
            </a:br>
            <a:r>
              <a:rPr b="1" lang="tr-TR" sz="3200" spc="-1" strike="noStrike">
                <a:solidFill>
                  <a:srgbClr val="000000"/>
                </a:solidFill>
                <a:latin typeface="Verdana"/>
              </a:rPr>
              <a:t>07 OCAK 200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0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Verdana"/>
              </a:rPr>
              <a:t>31.12.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Verdana"/>
              </a:rPr>
              <a:t>DÖNEM SONU İŞLEMLER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7" descr="gsuamblem_74x100_beyaz"/>
          <p:cNvPicPr/>
          <p:nvPr/>
        </p:nvPicPr>
        <p:blipFill>
          <a:blip r:embed="rId1"/>
          <a:stretch/>
        </p:blipFill>
        <p:spPr>
          <a:xfrm>
            <a:off x="8331120" y="5789520"/>
            <a:ext cx="704880" cy="952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gsuamblem_74x100_beyaz"/>
          <p:cNvPicPr/>
          <p:nvPr/>
        </p:nvPicPr>
        <p:blipFill>
          <a:blip r:embed="rId2"/>
          <a:stretch/>
        </p:blipFill>
        <p:spPr>
          <a:xfrm>
            <a:off x="34920" y="5789520"/>
            <a:ext cx="704880" cy="952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Verdana"/>
              </a:rPr>
              <a:t>ALACAKLARIN DEĞERLEMESİ</a:t>
            </a:r>
            <a:br>
              <a:rPr sz="28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-DÖVİZLİ ALACAKLAR-</a:t>
            </a: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KUR ARTIŞ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9640" y="4594320"/>
          <a:ext cx="8028000" cy="1189080"/>
        </p:xfrm>
        <a:graphic>
          <a:graphicData uri="http://schemas.openxmlformats.org/drawingml/2006/table">
            <a:tbl>
              <a:tblPr/>
              <a:tblGrid>
                <a:gridCol w="400320"/>
                <a:gridCol w="2135160"/>
                <a:gridCol w="2773080"/>
                <a:gridCol w="284400"/>
                <a:gridCol w="1185840"/>
                <a:gridCol w="124920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 ALICILAR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02 Yurt Dışı Alacakl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6 KAMBİYO KARLARI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21"/>
          <p:cNvSpPr/>
          <p:nvPr/>
        </p:nvSpPr>
        <p:spPr>
          <a:xfrm>
            <a:off x="1008720" y="1643040"/>
            <a:ext cx="75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İLGİLİ HESAP DÖNEMİNDEN SONRA (2009 ve sonrası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Gelir Tablosunda OLAĞAN GELİRLERE etki etmesi gerekmektedir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 u="sng">
                <a:solidFill>
                  <a:srgbClr val="000000"/>
                </a:solidFill>
                <a:uFillTx/>
                <a:latin typeface="Verdana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 2008 içinde yapılan bir ihracattan doğan kur farkı geliri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SATIŞ YAPILDIKTAN SONRAKİ HESAP DÖNEMLERİND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Kambiyo Karlarını artırıcı bir işlemdir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Verdana"/>
              </a:rPr>
              <a:t>ALACAKLARIN DEĞERLEMESİ</a:t>
            </a:r>
            <a:br>
              <a:rPr sz="28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-DÖVİZLİ ALACAKLAR-</a:t>
            </a: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KUR AZALIŞ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3851280"/>
          <a:ext cx="8028000" cy="2316240"/>
        </p:xfrm>
        <a:graphic>
          <a:graphicData uri="http://schemas.openxmlformats.org/drawingml/2006/table">
            <a:tbl>
              <a:tblPr/>
              <a:tblGrid>
                <a:gridCol w="400320"/>
                <a:gridCol w="2135160"/>
                <a:gridCol w="2773080"/>
                <a:gridCol w="284400"/>
                <a:gridCol w="1185840"/>
                <a:gridCol w="1249200"/>
              </a:tblGrid>
              <a:tr h="17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1 YURTDIŞI SATIŞLA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99 Kur Farkları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Vey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2 DİĞER İNDİRİMLER(-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 ALICILAR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02 Yurt Dışı Alacakl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21"/>
          <p:cNvSpPr/>
          <p:nvPr/>
        </p:nvSpPr>
        <p:spPr>
          <a:xfrm>
            <a:off x="1006560" y="1643040"/>
            <a:ext cx="727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İLGİLİ HESAP DÖNEMİNİN SONUNA KADAR (31.12.2008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Gelir Tablosunda NET SATIŞLARA etki etmesi gerekmektedir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 u="sng">
                <a:solidFill>
                  <a:srgbClr val="000000"/>
                </a:solidFill>
                <a:uFillTx/>
                <a:latin typeface="Verdana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 2008 içinde yapılan bir ihracattan doğan kur farkı geliri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AYNI YILIN SONUNDA satış gelirlerini azaltıcı bir işlemdir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Verdana"/>
              </a:rPr>
              <a:t>ALACAKLARIN DEĞERLEMESİ</a:t>
            </a:r>
            <a:br>
              <a:rPr sz="28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-DÖVİZLİ ALACAKLAR-</a:t>
            </a: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KUR AZALIŞ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9640" y="4905360"/>
          <a:ext cx="8028000" cy="1189080"/>
        </p:xfrm>
        <a:graphic>
          <a:graphicData uri="http://schemas.openxmlformats.org/drawingml/2006/table">
            <a:tbl>
              <a:tblPr/>
              <a:tblGrid>
                <a:gridCol w="400320"/>
                <a:gridCol w="2135160"/>
                <a:gridCol w="2773080"/>
                <a:gridCol w="284400"/>
                <a:gridCol w="1185840"/>
                <a:gridCol w="1249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6 KAMBİYO ZARARLARI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 ALICILAR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02 Yurt Dışı Alacakl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21"/>
          <p:cNvSpPr/>
          <p:nvPr/>
        </p:nvSpPr>
        <p:spPr>
          <a:xfrm>
            <a:off x="1008720" y="1643040"/>
            <a:ext cx="75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İLGİLİ HESAP DÖNEMİNDEN SONRA (2009 ve sonrası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Gelir Tablosunda OLAĞAN GELİRLERE etki etmesi gerekmektedir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 u="sng">
                <a:solidFill>
                  <a:srgbClr val="000000"/>
                </a:solidFill>
                <a:uFillTx/>
                <a:latin typeface="Verdana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 2008 içinde yapılan bir ihracattan doğan kur farkı gideri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SATIŞ YAPILDIKTAN SONRAKİ HESAP DÖNEMLERİND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Kambiyo Zararlarını artırıcı bir işlemdir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Verdana"/>
              </a:rPr>
              <a:t>ALACAKLARIN DEĞERLEMESİ</a:t>
            </a:r>
            <a:br>
              <a:rPr sz="28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-Özellik Arz Eden Durumlar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Verdana"/>
              </a:rPr>
              <a:t>ŞÜPHELİ TİCARİ ALACAKL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Verdana"/>
              </a:rPr>
              <a:t>DEĞERSİZ ALACAKL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340000" y="3645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Verdana"/>
              </a:rPr>
              <a:t>VAZGEÇİLEN ALACAKLA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340000" y="53481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Verdana"/>
              </a:rPr>
              <a:t>VE REESKONT İŞLEMLER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1"/>
          <a:stretch/>
        </p:blipFill>
        <p:spPr>
          <a:xfrm>
            <a:off x="-36360" y="2746440"/>
            <a:ext cx="1828800" cy="291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Verdana"/>
              </a:rPr>
              <a:t>ALACAKLARIN DEĞERLEMESİ</a:t>
            </a:r>
            <a:br>
              <a:rPr sz="32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-ŞÜPHELİ TİCARİ ALACAKLAR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900" spc="-1" strike="noStrike" u="sng">
                <a:solidFill>
                  <a:srgbClr val="000000"/>
                </a:solidFill>
                <a:uFillTx/>
                <a:latin typeface="Verdana"/>
              </a:rPr>
              <a:t>VUK 323. Maddesine göre bir alacağın şüpheli alacak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900" spc="-1" strike="noStrike" u="sng">
                <a:solidFill>
                  <a:srgbClr val="000000"/>
                </a:solidFill>
                <a:uFillTx/>
                <a:latin typeface="Verdana"/>
              </a:rPr>
              <a:t>sayılabilmesi için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00"/>
                </a:solidFill>
                <a:latin typeface="Verdana"/>
              </a:rPr>
              <a:t>Ticari veya zırai kazancın idame ettirilmesi ile ilgili olması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00"/>
                </a:solidFill>
                <a:latin typeface="Verdana"/>
              </a:rPr>
              <a:t>Hasılat olarak kaydedilmes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00"/>
                </a:solidFill>
                <a:latin typeface="Verdana"/>
              </a:rPr>
              <a:t>Dava ve icra safhasında olması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00"/>
                </a:solidFill>
                <a:latin typeface="Verdana"/>
              </a:rPr>
              <a:t>Yapılan protestoya veya yazı ile bir defadan fazla istenmesine rağmen borçlu tarafından ödenmemiş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tr-TR" sz="1900" spc="-1" strike="noStrike">
                <a:solidFill>
                  <a:srgbClr val="000000"/>
                </a:solidFill>
                <a:latin typeface="Verdana"/>
              </a:rPr>
              <a:t>bulunan dava ve icra takibine değmeyecek dereced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tr-TR" sz="1900" spc="-1" strike="noStrike">
                <a:solidFill>
                  <a:srgbClr val="000000"/>
                </a:solidFill>
                <a:latin typeface="Verdana"/>
              </a:rPr>
              <a:t>küçük olması gerekir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00"/>
                </a:solidFill>
                <a:latin typeface="Verdana"/>
              </a:rPr>
              <a:t>AYRICA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Verdana"/>
              </a:rPr>
              <a:t>ALACAKLARIN DEĞERLEMESİ</a:t>
            </a:r>
            <a:br>
              <a:rPr sz="32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-ŞÜPHELİ TİCARİ ALACAKLAR-</a:t>
            </a: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Muhtelif Danıştay Kararlar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Verdana"/>
              </a:rPr>
              <a:t>İcra takibi CİDDİ olmalıdı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 u="sng">
                <a:solidFill>
                  <a:srgbClr val="000000"/>
                </a:solidFill>
                <a:uFillTx/>
                <a:latin typeface="Verdana"/>
              </a:rPr>
              <a:t>ALACAĞIN TEMİNATLI OLMASI:</a:t>
            </a:r>
            <a:r>
              <a:rPr b="0" lang="tr-TR" sz="2100" spc="-1" strike="noStrike">
                <a:solidFill>
                  <a:srgbClr val="000000"/>
                </a:solidFill>
                <a:latin typeface="Verdana"/>
              </a:rPr>
              <a:t> Takip üzerine hacizle teminata bağlanan alacaklar için karşılık ayrılamaz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 u="sng">
                <a:solidFill>
                  <a:srgbClr val="000000"/>
                </a:solidFill>
                <a:uFillTx/>
                <a:latin typeface="Verdana"/>
              </a:rPr>
              <a:t>KARŞILIK AYIRMA DÖNEMİ:</a:t>
            </a:r>
            <a:r>
              <a:rPr b="0" lang="tr-TR" sz="2100" spc="-1" strike="noStrike">
                <a:solidFill>
                  <a:srgbClr val="000000"/>
                </a:solidFill>
                <a:latin typeface="Verdana"/>
              </a:rPr>
              <a:t> Alacağın dava ve icra safhasına düştüğü dönem yada izleyen herhangi bir dönemde karşılık ayrılabilecekti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 u="sng">
                <a:solidFill>
                  <a:srgbClr val="000000"/>
                </a:solidFill>
                <a:uFillTx/>
                <a:latin typeface="Verdana"/>
              </a:rPr>
              <a:t>KAMUDAN ALACAKLAR:</a:t>
            </a:r>
            <a:r>
              <a:rPr b="0" lang="tr-TR" sz="2100" spc="-1" strike="noStrike">
                <a:solidFill>
                  <a:srgbClr val="000000"/>
                </a:solidFill>
                <a:latin typeface="Verdana"/>
              </a:rPr>
              <a:t> İdarenin görüşü karşılık ayrılamayacağı şeklindedir. Karşıt görüş de va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Verdana"/>
              </a:rPr>
              <a:t>ALACAKLARIN DEĞERLEMESİ</a:t>
            </a:r>
            <a:br>
              <a:rPr sz="32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-ŞÜPHELİ TİCARİ ALACAKLAR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 u="sng">
                <a:solidFill>
                  <a:srgbClr val="000000"/>
                </a:solidFill>
                <a:uFillTx/>
                <a:latin typeface="Verdana"/>
              </a:rPr>
              <a:t>VERİLEN AVANSLARDAN ALACAKLAR:</a:t>
            </a:r>
            <a:r>
              <a:rPr b="0" lang="tr-TR" sz="3000" spc="-1" strike="noStrike">
                <a:solidFill>
                  <a:srgbClr val="000000"/>
                </a:solidFill>
                <a:latin typeface="Verdana"/>
              </a:rPr>
              <a:t> Avans hasılatla ilişkilendirilmediği için karşılık ayrılama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 u="sng">
                <a:solidFill>
                  <a:srgbClr val="000000"/>
                </a:solidFill>
                <a:uFillTx/>
                <a:latin typeface="Verdana"/>
              </a:rPr>
              <a:t>KDV’DEN KAYNAKLANAN ALACAKLAR:</a:t>
            </a:r>
            <a:r>
              <a:rPr b="0" lang="tr-TR" sz="3000" spc="-1" strike="noStrike">
                <a:solidFill>
                  <a:srgbClr val="000000"/>
                </a:solidFill>
                <a:latin typeface="Verdana"/>
              </a:rPr>
              <a:t> VUK Tebliği 234 uyarınca karşılık ayrılabili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 u="sng">
                <a:solidFill>
                  <a:srgbClr val="000000"/>
                </a:solidFill>
                <a:uFillTx/>
                <a:latin typeface="Verdana"/>
              </a:rPr>
              <a:t>TAHSİL EDİLEMEYEN MEVDUAT VE REPO: </a:t>
            </a:r>
            <a:r>
              <a:rPr b="0" lang="tr-TR" sz="3000" spc="-1" strike="noStrike">
                <a:solidFill>
                  <a:srgbClr val="000000"/>
                </a:solidFill>
                <a:latin typeface="Verdana"/>
              </a:rPr>
              <a:t>Hasılat yazılmamış ise karşılık ayrılamaz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Verdana"/>
              </a:rPr>
              <a:t>ALACAKLARIN DEĞERLEMESİ</a:t>
            </a:r>
            <a:br>
              <a:rPr sz="32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-ŞÜPHELİ TİCARİ ALACAKLAR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5280" y="2544840"/>
          <a:ext cx="8172360" cy="1315800"/>
        </p:xfrm>
        <a:graphic>
          <a:graphicData uri="http://schemas.openxmlformats.org/drawingml/2006/table">
            <a:tbl>
              <a:tblPr/>
              <a:tblGrid>
                <a:gridCol w="406440"/>
                <a:gridCol w="2174760"/>
                <a:gridCol w="2824200"/>
                <a:gridCol w="379440"/>
                <a:gridCol w="1114560"/>
                <a:gridCol w="127296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8 ŞÜPHELİ TİCARİ ALACAKLA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1 ALACAK SENETLERİ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79280" y="4826160"/>
          <a:ext cx="8599680" cy="1485720"/>
        </p:xfrm>
        <a:graphic>
          <a:graphicData uri="http://schemas.openxmlformats.org/drawingml/2006/table">
            <a:tbl>
              <a:tblPr/>
              <a:tblGrid>
                <a:gridCol w="623880"/>
                <a:gridCol w="2235240"/>
                <a:gridCol w="2898720"/>
                <a:gridCol w="390600"/>
                <a:gridCol w="1143000"/>
                <a:gridCol w="130824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4 KARŞILIK GİDERLERİ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9 ŞÜPHELİ TİCARİ ALACAKLAR KARŞILIĞI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78"/>
          <p:cNvSpPr/>
          <p:nvPr/>
        </p:nvSpPr>
        <p:spPr>
          <a:xfrm>
            <a:off x="1547640" y="19065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 u="sng">
                <a:solidFill>
                  <a:srgbClr val="000000"/>
                </a:solidFill>
                <a:uFillTx/>
                <a:latin typeface="Verdana"/>
              </a:rPr>
              <a:t>ALACAĞIN ŞÜPHELİ HALE GELMESİ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79"/>
          <p:cNvSpPr/>
          <p:nvPr/>
        </p:nvSpPr>
        <p:spPr>
          <a:xfrm>
            <a:off x="468360" y="40705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 u="sng">
                <a:solidFill>
                  <a:srgbClr val="000000"/>
                </a:solidFill>
                <a:uFillTx/>
                <a:latin typeface="Verdana"/>
              </a:rPr>
              <a:t>ŞÜPHELİ HALE GELEN ALACAĞA KARŞILIK AYRILMASI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Verdana"/>
              </a:rPr>
              <a:t>ALACAKLARIN DEĞERLEMESİ</a:t>
            </a:r>
            <a:br>
              <a:rPr sz="32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-DEĞERSİZ ALACAKLAR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Bir alacağın değersiz sayılabilmesi için ya tahsilinin imkansız olduğuna dair bir </a:t>
            </a:r>
            <a:r>
              <a:rPr b="1" lang="tr-TR" sz="2600" spc="-1" strike="noStrike">
                <a:solidFill>
                  <a:srgbClr val="000000"/>
                </a:solidFill>
                <a:latin typeface="Verdana"/>
              </a:rPr>
              <a:t>YARGI KARARI</a:t>
            </a: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 ya da </a:t>
            </a:r>
            <a:r>
              <a:rPr b="1" lang="tr-TR" sz="2600" spc="-1" strike="noStrike">
                <a:solidFill>
                  <a:srgbClr val="000000"/>
                </a:solidFill>
                <a:latin typeface="Verdana"/>
              </a:rPr>
              <a:t>KANAAT VERİCİ BELGE</a:t>
            </a: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 bulunmalıdı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 u="sng">
                <a:solidFill>
                  <a:srgbClr val="000000"/>
                </a:solidFill>
                <a:uFillTx/>
                <a:latin typeface="Verdana"/>
              </a:rPr>
              <a:t>VADE KONKORDATOSU:</a:t>
            </a: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 Bu durumda alacak vadeye bağlandığından şüpheli alacak karşılığı ayrılması ve değersiz alacak yazılması söz konusu </a:t>
            </a:r>
            <a:r>
              <a:rPr b="1" lang="tr-TR" sz="2600" spc="-1" strike="noStrike">
                <a:solidFill>
                  <a:srgbClr val="000000"/>
                </a:solidFill>
                <a:latin typeface="Verdana"/>
              </a:rPr>
              <a:t>OLAMAZ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 u="sng">
                <a:solidFill>
                  <a:srgbClr val="000000"/>
                </a:solidFill>
                <a:uFillTx/>
                <a:latin typeface="Verdana"/>
              </a:rPr>
              <a:t>HATIR SENETLERİ:</a:t>
            </a: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 Değersiz alacak </a:t>
            </a:r>
            <a:r>
              <a:rPr b="1" lang="tr-TR" sz="2600" spc="-1" strike="noStrike">
                <a:solidFill>
                  <a:srgbClr val="000000"/>
                </a:solidFill>
                <a:latin typeface="Verdana"/>
              </a:rPr>
              <a:t>YAZILAMAZ!</a:t>
            </a:r>
            <a:r>
              <a:rPr b="0" lang="tr-T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Verdana"/>
              </a:rPr>
              <a:t>ALACAKLARIN DEĞERLEMESİ</a:t>
            </a:r>
            <a:br>
              <a:rPr sz="32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-DEĞERSİZ ALACAKLAR-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39640" y="3567240"/>
          <a:ext cx="8066160" cy="1549440"/>
        </p:xfrm>
        <a:graphic>
          <a:graphicData uri="http://schemas.openxmlformats.org/drawingml/2006/table">
            <a:tbl>
              <a:tblPr/>
              <a:tblGrid>
                <a:gridCol w="621000"/>
                <a:gridCol w="2087280"/>
                <a:gridCol w="2705040"/>
                <a:gridCol w="490680"/>
                <a:gridCol w="939960"/>
                <a:gridCol w="12222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9 DİĞER OLAĞAN GİDER VE ZARARLA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1 ALACAK SENETLERİ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 Box 25"/>
          <p:cNvSpPr/>
          <p:nvPr/>
        </p:nvSpPr>
        <p:spPr>
          <a:xfrm>
            <a:off x="324000" y="2133720"/>
            <a:ext cx="85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Bir alacak şüpheli hale gelmeden yada şüpheli alacak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karşılığı ayrılmadan değersiz alacak olmuşsa yapılması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gereken muhasebe kaydı şöyledir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1908000" y="1052640"/>
            <a:ext cx="5410440" cy="5029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0"/>
            <a:ext cx="914400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600" spc="-1" strike="noStrike">
                <a:solidFill>
                  <a:srgbClr val="ffffff"/>
                </a:solidFill>
                <a:latin typeface="Times New Roman"/>
              </a:rPr>
              <a:t>DÖNEM SONU İŞLEMLERİ NELERDİR?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3" name="AutoShape 4"/>
          <p:cNvCxnSpPr/>
          <p:nvPr/>
        </p:nvCxnSpPr>
        <p:spPr>
          <a:xfrm>
            <a:off x="0" y="380520"/>
            <a:ext cx="9144720" cy="2520"/>
          </a:xfrm>
          <a:prstGeom prst="straightConnector1">
            <a:avLst/>
          </a:prstGeom>
          <a:ln w="25560">
            <a:solidFill>
              <a:srgbClr val="0000ff"/>
            </a:solidFill>
            <a:miter/>
          </a:ln>
        </p:spPr>
      </p:cxnSp>
      <p:sp>
        <p:nvSpPr>
          <p:cNvPr id="94" name="Text Box 5"/>
          <p:cNvSpPr/>
          <p:nvPr/>
        </p:nvSpPr>
        <p:spPr>
          <a:xfrm>
            <a:off x="3228120" y="3716280"/>
            <a:ext cx="2757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700" spc="-1" strike="noStrike">
                <a:solidFill>
                  <a:srgbClr val="ffffff"/>
                </a:solidFill>
                <a:latin typeface="Arial"/>
              </a:rPr>
              <a:t>VERGİ BEYANNAMELERİ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916360" y="4076640"/>
            <a:ext cx="324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ffff"/>
                </a:solidFill>
                <a:latin typeface="Arial"/>
              </a:rPr>
              <a:t>DOĞRU FİNANSAL TABLOLAR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276720" y="549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1-KAYDİ ENVANTER (MUHASEBE İÇİ ENVANTER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-108000" y="615780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2-FİİLİ ENVANTE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(MUHASEBE DIŞI ENVANTER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164360" y="61578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3-DEĞERLEM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000000"/>
                </a:solidFill>
                <a:latin typeface="Verdana"/>
              </a:rPr>
              <a:t>STOKLAR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Verdana"/>
              </a:rPr>
              <a:t>Maliyet değeri ile değerleni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Verdana"/>
              </a:rPr>
              <a:t>Ortalama Yöntemler, FIFO kullanılabili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Verdana"/>
              </a:rPr>
              <a:t>STOKLAR</a:t>
            </a:r>
            <a:br>
              <a:rPr sz="3800"/>
            </a:br>
            <a:r>
              <a:rPr b="1" lang="tr-TR" sz="2800" spc="-1" strike="noStrike">
                <a:solidFill>
                  <a:srgbClr val="cc0000"/>
                </a:solidFill>
                <a:latin typeface="Verdana"/>
              </a:rPr>
              <a:t>-Vergi Planlaması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Verdana"/>
              </a:rPr>
              <a:t>Üretim işletmelerinde stoklara yüklenen Kullanılmayan Kapasiteye ait GÜG’lerini doğrudan Gelir Tablosu’nda gider yazmak mümkündü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Verdana"/>
              </a:rPr>
              <a:t>AMORTİSMANLAR</a:t>
            </a:r>
            <a:br>
              <a:rPr sz="2800"/>
            </a:br>
            <a:r>
              <a:rPr b="1" lang="tr-TR" sz="2400" spc="-1" strike="noStrike">
                <a:solidFill>
                  <a:srgbClr val="cc0000"/>
                </a:solidFill>
                <a:latin typeface="Verdana"/>
              </a:rPr>
              <a:t>-YARARLI ÖMÜR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4920" y="1754280"/>
          <a:ext cx="9036000" cy="4267080"/>
        </p:xfrm>
        <a:graphic>
          <a:graphicData uri="http://schemas.openxmlformats.org/drawingml/2006/table">
            <a:tbl>
              <a:tblPr/>
              <a:tblGrid>
                <a:gridCol w="4406760"/>
                <a:gridCol w="4629240"/>
              </a:tblGrid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NORMAL AMORTİSMA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lığın Yararlı Ömrü süresince eşit oranlarda amortisman ayrılır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ZLANDIRILMIŞ AMORTİSMA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 Amortismanın 2 katı oranında ve varlığın her yıl net değeri üzerinden ayrılır ancak bu oran %50 yi geçemez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FEVKALADE (OLAĞANÜSTÜ) AMORTİSMA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ğal Afetle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ni icatla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bri aşınm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KIST AMORTİSMA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sfiye, birleşme ve devirden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v-i değişikliği ve bölünm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i ortaklıklarda ortak değişim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nek otolard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Verdana"/>
              </a:rPr>
              <a:t>YENİLEME FONU</a:t>
            </a:r>
            <a:br>
              <a:rPr sz="32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NEDİ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Verdana"/>
              </a:rPr>
              <a:t>Amortismana tabi iktisadi kıymetlerin satışından doğan kar vey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Verdana"/>
              </a:rPr>
              <a:t>Doğal afetler vb. nedenlerle hasara uğraması halinde sigortadan alınan tazminat fazlası bazı şartlarla yenileme fonuna alınabili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Verdana"/>
              </a:rPr>
              <a:t>Vergi Usul Kanununda yer alan bu düzenleme ile yenileme fonuna alınan kar, üç yıl beyan edilmemek suretiyle mükelleflere kaynak kullanımı imkanı doğurmaktadı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Verdana"/>
              </a:rPr>
              <a:t>YENİLEME FONU</a:t>
            </a:r>
            <a:br>
              <a:rPr sz="3200"/>
            </a:br>
            <a:br>
              <a:rPr sz="3200"/>
            </a:br>
            <a:r>
              <a:rPr b="1" lang="tr-T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tr-TR" sz="2400" spc="-1" strike="noStrike">
                <a:solidFill>
                  <a:srgbClr val="000000"/>
                </a:solidFill>
                <a:latin typeface="Verdana"/>
              </a:rPr>
              <a:t>OLUŞUMU ve KULLANIM ŞARTLARI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557360"/>
            <a:ext cx="9325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Yenileme fonu ayıracak mükellef bilanço esasına göre defter tutmalıdır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Satılan veya hasara uğrayan kıymetin amortismana tabi iktisadi kıymet olması gerekir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Satılan iktisadi kıymetin yenilenmesinin zorunlu olması veya   işletmeyi idare edenlerce bu konuda karar verilerek girişimde bulunulması gerekir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Yeni alınan iktisadi kıymetle satılan iktisadi kıymet aynı nitelikte olmalıdır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Yenileme fonuna alınan kar, yeni alınan amortismana tabi iktisadi kıymetin amortisman giderlerine mahsup edilmelidir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Yenileme fonuna alınan karın 3 yıl içinde kullanılması zorunludur. Her ne şekilde olursa olsun Yenileme Fonuna alınan karın üç yıl içinde kullanılmaması halinde 3. Yılın vergi matrahına eklenmelidir.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Verdana"/>
              </a:rPr>
              <a:t>YENİLEME FONU</a:t>
            </a:r>
            <a:br>
              <a:rPr sz="32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-Örnek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Kayıtlı değeri ……. TL ve birikmiş amortismanı ……. TL olan bir makine ………. TL ye satılmıştı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İşletme yöneticileri tarafından satılan makinenin yenisinin alınması yönünde karar alınmıştı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95280" y="3573360"/>
          <a:ext cx="8585280" cy="1990800"/>
        </p:xfrm>
        <a:graphic>
          <a:graphicData uri="http://schemas.openxmlformats.org/drawingml/2006/table">
            <a:tbl>
              <a:tblPr/>
              <a:tblGrid>
                <a:gridCol w="654120"/>
                <a:gridCol w="2222280"/>
                <a:gridCol w="2882880"/>
                <a:gridCol w="398520"/>
                <a:gridCol w="1127160"/>
                <a:gridCol w="13003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7 BİRİKMİŞ AMORTİSMANLA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 KAS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3 TESİS MAKİNE CİHAZLAR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549 ÖZEL FONLAR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Verdana"/>
              </a:rPr>
              <a:t>YENİLEME FONU</a:t>
            </a:r>
            <a:br>
              <a:rPr sz="3600"/>
            </a:br>
            <a:r>
              <a:rPr b="1" lang="tr-TR" sz="2400" spc="-1" strike="noStrike">
                <a:solidFill>
                  <a:srgbClr val="000000"/>
                </a:solidFill>
                <a:latin typeface="Verdana"/>
              </a:rPr>
              <a:t>-Örnek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52480"/>
            <a:ext cx="828036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Satılan makinenin yerine yenisi alınmıştı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2205000"/>
          <a:ext cx="8518320" cy="1463760"/>
        </p:xfrm>
        <a:graphic>
          <a:graphicData uri="http://schemas.openxmlformats.org/drawingml/2006/table">
            <a:tbl>
              <a:tblPr/>
              <a:tblGrid>
                <a:gridCol w="654120"/>
                <a:gridCol w="2205000"/>
                <a:gridCol w="2857320"/>
                <a:gridCol w="395280"/>
                <a:gridCol w="1117800"/>
                <a:gridCol w="128880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549 ÖZEL FONLAR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7 BİRİKMİŞ AMORTİSMANLAR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49"/>
          <p:cNvSpPr/>
          <p:nvPr/>
        </p:nvSpPr>
        <p:spPr>
          <a:xfrm>
            <a:off x="5940360" y="4869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Verdana"/>
              </a:rPr>
              <a:t>VEY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Verdana"/>
              </a:rPr>
              <a:t>YENİLEME FONU</a:t>
            </a:r>
            <a:br>
              <a:rPr sz="4000"/>
            </a:br>
            <a:r>
              <a:rPr b="1" lang="tr-TR" sz="2800" spc="-1" strike="noStrike">
                <a:solidFill>
                  <a:srgbClr val="000000"/>
                </a:solidFill>
                <a:latin typeface="Verdana"/>
              </a:rPr>
              <a:t>-Örnek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16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Satılan makinenin yerine 3 yıl sonund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yenisinin alınmaması durumunda özel fonlara alınan yenileme fonu tutarı dönemin vergi matrahına eklenmek üzere gelir kaydedilmedi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81080" y="3933720"/>
          <a:ext cx="8567640" cy="1463760"/>
        </p:xfrm>
        <a:graphic>
          <a:graphicData uri="http://schemas.openxmlformats.org/drawingml/2006/table">
            <a:tbl>
              <a:tblPr/>
              <a:tblGrid>
                <a:gridCol w="657000"/>
                <a:gridCol w="2217960"/>
                <a:gridCol w="2874960"/>
                <a:gridCol w="396720"/>
                <a:gridCol w="1123920"/>
                <a:gridCol w="129708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549 ÖZEL FONLAR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71 ÖNCEKİ DÖNEM GELİR ve KARLARI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Verdana"/>
              </a:rPr>
              <a:t>YENİLEME FONU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0920" y="1825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Verdana"/>
              </a:rPr>
              <a:t>Aynı yıl içinde yenileme yapılması halinde uygulamadan yararlanılabilir.(İdare görüşü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Verdana"/>
              </a:rPr>
              <a:t>YENİLEME FON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Verdana"/>
              </a:rPr>
              <a:t>Üç yıllık sür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0" lang="tr-T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Verdana"/>
              </a:rPr>
              <a:t>Satıldığı yılı      takip </a:t>
            </a:r>
            <a:r>
              <a:rPr b="0" lang="tr-T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Verdana"/>
              </a:rPr>
              <a:t>eden takvim yılı başından </a:t>
            </a:r>
            <a:r>
              <a:rPr b="0" lang="tr-T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Verdana"/>
              </a:rPr>
              <a:t>itibaren başlar.(Danıştay Kararı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tr-TR" sz="3000" spc="-1" strike="noStrike">
                <a:solidFill>
                  <a:srgbClr val="000000"/>
                </a:solidFill>
                <a:latin typeface="Verdana"/>
              </a:rPr>
              <a:t>Satıldığı yıl ilk yıldır. (idar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000000"/>
                </a:solidFill>
                <a:latin typeface="Verdana"/>
              </a:rPr>
              <a:t>DÖNEM SONU İŞLEMLERİ NELERDİR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900" spc="-1" strike="noStrike" u="sng">
                <a:solidFill>
                  <a:srgbClr val="000000"/>
                </a:solidFill>
                <a:uFillTx/>
                <a:latin typeface="Verdana"/>
              </a:rPr>
              <a:t>KAYDİ ENVAN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4" descr="j0309606"/>
          <p:cNvPicPr/>
          <p:nvPr/>
        </p:nvPicPr>
        <p:blipFill>
          <a:blip r:embed="rId1"/>
          <a:stretch/>
        </p:blipFill>
        <p:spPr>
          <a:xfrm>
            <a:off x="611280" y="2708280"/>
            <a:ext cx="244800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4038840" y="2724120"/>
            <a:ext cx="39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Muhasebe kayıtlarındaki tutarla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Muhasebe içi envanteri gösterir.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Verdana"/>
              </a:rPr>
              <a:t>ÖZEL MALİYET BEDEL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82556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Verdana"/>
              </a:rPr>
              <a:t>VUK 272. mad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1- Başkasına ait olmalıdı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2- Kiralanmış olmalıdı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3-Giderler kiracı tarafından yapılmalıdı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4-İktisadi kıymetin artırılması amacıyla olmalıdı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5-Yapılan harcamaların tek başına bir fonksiyonu olmamalıdı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6-Doğrudan gider yazılan harcamalar olmamalıdı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Verdana"/>
              </a:rPr>
              <a:t>ÖZEL MALİYETLERİN İTFASI;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Verdana"/>
              </a:rPr>
              <a:t>VUK 327’E GÖRE, Özel maliyet bedelleri, kira süresine göre eşit yüzdelerle itfa edili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Verdana"/>
              </a:rPr>
              <a:t>Kiralanan şeyin, kira süresi dolmadan boşaltılması halinde, henüz itfa edilmemiş olan özel maliyet bedelleri, boşaltma yılında bir defada gider yazılı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Verdana"/>
              </a:rPr>
              <a:t>DÖNEM KAR VEYA ZARARININ TESPİTİ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249120" y="1760400"/>
          <a:ext cx="8562960" cy="639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120" y="1760400"/>
                    <a:ext cx="8562960" cy="639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Verdana"/>
              </a:rPr>
              <a:t>VERGİ MATRAHININ TESPİTİ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690 DÖNEM TİCARİ KAR VEYA ZARARI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+(-) 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Matraha İlave Edilecek Unsurlar (KKEG vb.)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+       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Matrahtan İndirilecek Unsurlar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tr-TR" sz="1800" spc="-1" strike="noStrike" u="sng">
                <a:solidFill>
                  <a:srgbClr val="000000"/>
                </a:solidFill>
                <a:uFillTx/>
                <a:latin typeface="Verdana"/>
              </a:rPr>
              <a:t>(-)  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MALİ KAR VEYA ZARAR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            +(-) 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Verdana"/>
              </a:rPr>
              <a:t>-DÖNEM KARI VEYA ZARARI-</a:t>
            </a:r>
            <a:br>
              <a:rPr sz="2400"/>
            </a:br>
            <a:r>
              <a:rPr b="1" lang="tr-TR" sz="2400" spc="-1" strike="noStrike">
                <a:solidFill>
                  <a:srgbClr val="000000"/>
                </a:solidFill>
                <a:latin typeface="Verdana"/>
              </a:rPr>
              <a:t>-VERGİ KARŞILIĞI AYRILMASI- </a:t>
            </a:r>
            <a:br>
              <a:rPr sz="2400"/>
            </a:br>
            <a:r>
              <a:rPr b="1" lang="tr-TR" sz="2400" spc="-1" strike="noStrike">
                <a:solidFill>
                  <a:srgbClr val="000000"/>
                </a:solidFill>
                <a:latin typeface="Verdana"/>
              </a:rPr>
              <a:t>-FİNANSAL TABLOLARA ALMA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9640" y="1700280"/>
          <a:ext cx="8004240" cy="4297320"/>
        </p:xfrm>
        <a:graphic>
          <a:graphicData uri="http://schemas.openxmlformats.org/drawingml/2006/table">
            <a:tbl>
              <a:tblPr/>
              <a:tblGrid>
                <a:gridCol w="660600"/>
                <a:gridCol w="2057400"/>
                <a:gridCol w="2670120"/>
                <a:gridCol w="368280"/>
                <a:gridCol w="1042920"/>
                <a:gridCol w="1204920"/>
              </a:tblGrid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0 DÖNEM KARI VEYA ZARARI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1DÖNEM KARI VERGİ KARŞ.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</a:t>
                      </a: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2 DÖNEM NET KARI(ZARARI)               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             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1 DÖNEM KARI VERGİ VE YAS.YÜK.KARŞILIĞI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0 DÖNEM KARI VERGİ VE YAS. YÜK.KARŞILIĞI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Verdana"/>
              </a:rPr>
              <a:t>-DÖNEM KARI VEYA ZARARI-</a:t>
            </a:r>
            <a:br>
              <a:rPr sz="2400"/>
            </a:br>
            <a:r>
              <a:rPr b="1" lang="tr-TR" sz="2400" spc="-1" strike="noStrike">
                <a:solidFill>
                  <a:srgbClr val="000000"/>
                </a:solidFill>
                <a:latin typeface="Verdana"/>
              </a:rPr>
              <a:t>-VERGİ KARŞILIĞI AYRILMASI- </a:t>
            </a:r>
            <a:br>
              <a:rPr sz="2400"/>
            </a:br>
            <a:r>
              <a:rPr b="1" lang="tr-TR" sz="2400" spc="-1" strike="noStrike">
                <a:solidFill>
                  <a:srgbClr val="000000"/>
                </a:solidFill>
                <a:latin typeface="Verdana"/>
              </a:rPr>
              <a:t>-FİNANSAL TABLOLARA ALMA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2360" y="1752480"/>
          <a:ext cx="8567640" cy="3764160"/>
        </p:xfrm>
        <a:graphic>
          <a:graphicData uri="http://schemas.openxmlformats.org/drawingml/2006/table">
            <a:tbl>
              <a:tblPr/>
              <a:tblGrid>
                <a:gridCol w="706320"/>
                <a:gridCol w="2202120"/>
                <a:gridCol w="2859120"/>
                <a:gridCol w="398520"/>
                <a:gridCol w="1112760"/>
                <a:gridCol w="1288800"/>
              </a:tblGrid>
              <a:tr h="24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2 DÖNEM NET KARI(ZARARI)               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</a:t>
                      </a: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0 DÖNEM NET KARI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             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1 PEŞİN ÖDENEN VERGİ VE FONLAR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</a:t>
                      </a:r>
                      <a:br>
                        <a:rPr sz="2000"/>
                      </a:b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3 PEŞİN ÖDENEN VERGİ VE FONLAR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000000"/>
                </a:solidFill>
                <a:latin typeface="Verdana"/>
              </a:rPr>
              <a:t>DÖNEM SONU İŞLEMLERİ NELERDİR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000" spc="-1" strike="noStrike" u="sng">
                <a:solidFill>
                  <a:srgbClr val="000000"/>
                </a:solidFill>
                <a:uFillTx/>
                <a:latin typeface="Verdana"/>
              </a:rPr>
              <a:t>FİİLİ ENVAN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j0283209"/>
          <p:cNvPicPr/>
          <p:nvPr/>
        </p:nvPicPr>
        <p:blipFill>
          <a:blip r:embed="rId1"/>
          <a:stretch/>
        </p:blipFill>
        <p:spPr>
          <a:xfrm>
            <a:off x="250920" y="2276640"/>
            <a:ext cx="3097080" cy="3703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419640" y="2292480"/>
            <a:ext cx="57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İşletmenin sahip olduğu ekonomik değerlerin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Sayılması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Ölçülmesi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Tartılması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ve Değerlendirilmesidir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000000"/>
                </a:solidFill>
                <a:latin typeface="Verdana"/>
              </a:rPr>
              <a:t>DÖNEM SONU İŞLEMLERİ</a:t>
            </a:r>
            <a:br>
              <a:rPr sz="3400"/>
            </a:br>
            <a:r>
              <a:rPr b="1" lang="tr-TR" sz="3400" spc="-1" strike="noStrike">
                <a:solidFill>
                  <a:srgbClr val="000000"/>
                </a:solidFill>
                <a:latin typeface="Verdana"/>
              </a:rPr>
              <a:t>NELERDİR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000" spc="-1" strike="noStrike" u="sng">
                <a:solidFill>
                  <a:srgbClr val="000000"/>
                </a:solidFill>
                <a:uFillTx/>
                <a:latin typeface="Verdana"/>
              </a:rPr>
              <a:t>DEĞERLE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175400" y="2421000"/>
            <a:ext cx="722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Bir işletmenin varlık ve kaynaklarının belirli bir tarihteki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değerlerinin para birimi ile ifade edilmesidir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VUK’nuna göre değerleme, vergi matrahlarının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hesaplanmasıyla ilgili iktisadi kıymetlerin takdir ve tespitidir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000000"/>
                </a:solidFill>
                <a:latin typeface="Verdana"/>
              </a:rPr>
              <a:t>DÖNEM SONU İŞLEMLERİ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000" spc="-1" strike="noStrike">
                <a:solidFill>
                  <a:srgbClr val="000000"/>
                </a:solidFill>
                <a:latin typeface="Verdana"/>
              </a:rPr>
              <a:t>Menkul Kıymet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000" spc="-1" strike="noStrike">
                <a:solidFill>
                  <a:srgbClr val="000000"/>
                </a:solidFill>
                <a:latin typeface="Verdana"/>
              </a:rPr>
              <a:t>Alacak ve Borçl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tr-TR" sz="3000" spc="-1" strike="noStrike">
                <a:solidFill>
                  <a:srgbClr val="000000"/>
                </a:solidFill>
                <a:latin typeface="Verdana"/>
              </a:rPr>
              <a:t>Stokl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000" spc="-1" strike="noStrike">
                <a:solidFill>
                  <a:srgbClr val="000000"/>
                </a:solidFill>
                <a:latin typeface="Verdana"/>
              </a:rPr>
              <a:t>Duran Varlıklarda Amortisman ve Yenileme Fon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000" spc="-1" strike="noStrike">
                <a:solidFill>
                  <a:srgbClr val="000000"/>
                </a:solidFill>
                <a:latin typeface="Verdana"/>
              </a:rPr>
              <a:t>Özel Maliyet Bedel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Verdana"/>
              </a:rPr>
              <a:t>MENKUL KIYMETLER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5714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Verdana"/>
              </a:rPr>
              <a:t>ALIŞ BEDELİ ÖLÇÜS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Hisse Senetle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Verdana"/>
              </a:rPr>
              <a:t>BORSA RAYİCİ ÖLÇÜS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Eurobond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Hazine Bonos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Devlet tahvili /Özel sektör tahvil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Verdana"/>
              </a:rPr>
              <a:t>KIST GETİRİ ÖLÇÜS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Eurobond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Verdana"/>
              </a:rPr>
              <a:t>Özel Sektör Tahville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Verdana"/>
              </a:rPr>
              <a:t>ALACAKLARIN DEĞERLEMESİ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Verdana"/>
              </a:rPr>
              <a:t>Türk Lirası cinsinden olan alacakların değerleme ölçüs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tr-TR" sz="3000" spc="-1" strike="noStrike">
                <a:solidFill>
                  <a:srgbClr val="000000"/>
                </a:solidFill>
                <a:latin typeface="Verdana"/>
              </a:rPr>
              <a:t>MUKAYYET</a:t>
            </a:r>
            <a:r>
              <a:rPr b="1" lang="tr-TR" sz="3000" spc="-1" strike="noStrike">
                <a:solidFill>
                  <a:srgbClr val="000000"/>
                </a:solidFill>
                <a:latin typeface="Verdana"/>
              </a:rPr>
              <a:t> yani </a:t>
            </a:r>
            <a:r>
              <a:rPr b="1" i="1" lang="tr-TR" sz="3000" spc="-1" strike="noStrike">
                <a:solidFill>
                  <a:srgbClr val="000000"/>
                </a:solidFill>
                <a:latin typeface="Verdana"/>
              </a:rPr>
              <a:t>KAYITLI</a:t>
            </a:r>
            <a:r>
              <a:rPr b="1" lang="tr-TR" sz="3000" spc="-1" strike="noStrike">
                <a:solidFill>
                  <a:srgbClr val="000000"/>
                </a:solidFill>
                <a:latin typeface="Verdana"/>
              </a:rPr>
              <a:t> değerdi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Verdana"/>
              </a:rPr>
              <a:t>Döviz cinsinden olan alacaklar ise Maliye Bakanlığı tarafından açıklanan </a:t>
            </a:r>
            <a:r>
              <a:rPr b="1" i="1" lang="tr-TR" sz="3000" spc="-1" strike="noStrike">
                <a:solidFill>
                  <a:srgbClr val="000000"/>
                </a:solidFill>
                <a:latin typeface="Verdana"/>
              </a:rPr>
              <a:t>DÖVİZ ALIŞ KURU</a:t>
            </a:r>
            <a:r>
              <a:rPr b="1" lang="tr-TR" sz="3000" spc="-1" strike="noStrike">
                <a:solidFill>
                  <a:srgbClr val="000000"/>
                </a:solidFill>
                <a:latin typeface="Verdana"/>
              </a:rPr>
              <a:t> ile değerleni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Yrd.Doç.Dr. Volkan DEMİR  Galatasaray Üniversitesi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Verdana"/>
              </a:rPr>
              <a:t>ALACAKLARIN DEĞERLEMESİ</a:t>
            </a:r>
            <a:br>
              <a:rPr sz="28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-DÖVİZLİ ALACAKLAR-</a:t>
            </a: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Verdana"/>
              </a:rPr>
              <a:t>KUR ARTIŞ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9640" y="4594320"/>
          <a:ext cx="8028000" cy="1189080"/>
        </p:xfrm>
        <a:graphic>
          <a:graphicData uri="http://schemas.openxmlformats.org/drawingml/2006/table">
            <a:tbl>
              <a:tblPr/>
              <a:tblGrid>
                <a:gridCol w="400320"/>
                <a:gridCol w="2135160"/>
                <a:gridCol w="2773080"/>
                <a:gridCol w="284400"/>
                <a:gridCol w="1185840"/>
                <a:gridCol w="124920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 ALICILAR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02 Yurt Dışı Alacakla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1 YURTDIŞI SATIŞLA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99 Kur Farkları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64"/>
          <p:cNvSpPr/>
          <p:nvPr/>
        </p:nvSpPr>
        <p:spPr>
          <a:xfrm>
            <a:off x="1006560" y="1643040"/>
            <a:ext cx="727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İLGİLİ HESAP DÖNEMİNİN SONUNA KADAR (31.12.2008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Gelir Tablosunda NET SATIŞLARA etki etmesi gerekmektedir;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 u="sng">
                <a:solidFill>
                  <a:srgbClr val="000000"/>
                </a:solidFill>
                <a:uFillTx/>
                <a:latin typeface="Verdana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 2008 içinde yapılan bir ihracattan doğan kur farkı geliri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Verdana"/>
              </a:rPr>
              <a:t>AYNI YILIN SONUNDA satış gelirlerini artırıcı bir işlemdir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0:25:48Z</dcterms:created>
  <dc:creator>Volkan Demir</dc:creator>
  <dc:description/>
  <dc:language>en-US</dc:language>
  <cp:lastModifiedBy>Volkan Demir</cp:lastModifiedBy>
  <dcterms:modified xsi:type="dcterms:W3CDTF">2009-01-07T09:27:15Z</dcterms:modified>
  <cp:revision>216</cp:revision>
  <dc:subject/>
  <dc:title>İSTANBUL TİCARET ODASI</dc:title>
</cp:coreProperties>
</file>